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0DE1-C022-4199-A528-466705A2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7864-5E71-4AB0-A88B-B30F59E9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D00F-A9BD-4523-A367-93385F2E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975E-26F4-4FB4-83EA-F1FC0259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D798-1638-4E95-9C21-86829EE9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C6D-86FC-4A73-831E-BA4C612B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7ECF-1FC4-4146-810F-90B0ECED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4179-41E7-4FC7-ACF3-A9ADF689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7B11-FF03-4A4C-9167-C0D1ABE9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8901-E7A7-4BC5-B281-00489AA2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906B-0937-4F9B-8100-160AF4F3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3504-4E9A-4A79-B724-49398CAB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D711-A845-43BB-9AB0-D51D0F9D5762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1285920"/>
            <a:ext cx="7223400" cy="443844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567160" y="347760"/>
            <a:ext cx="3754440" cy="61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500280" y="928800"/>
            <a:ext cx="187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نان فانتزی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71280" y="5715000"/>
            <a:ext cx="78584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7:44:33Z</dcterms:modified>
  <cp:revision>45</cp:revision>
  <dc:subject/>
  <dc:title>Slide 1</dc:title>
</cp:coreProperties>
</file>